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CF0-5106-4AF3-9406-1B3DE3D1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3D5-7152-4C1B-8C07-FA056C5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BD50-2E2F-43BE-9276-45522C9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1DC9-D11D-4AA4-BFE8-0C25B5FD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5B1F1-2764-4185-8941-C78B3CC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28420-800C-4150-A5C8-11A2B6F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EEDF8-54DC-4AEE-8849-7A495DF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5A84A-4042-44D2-9DD8-B5BDD5F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97C72-1C3E-4307-A81C-DF0E47D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39A3C-DF12-4C22-A9CB-B5EB325B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B8166-E0D0-4BE9-B308-C4FF829B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FB69D0-4DFD-4DD5-BDE8-096F42E0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D21-302F-49BB-A005-72CFB965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B1FD74-0872-4FC6-947E-DB8CDB5A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98A7A-03DB-48E5-B4A3-725A945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927381-0098-45A1-B6B6-39FC501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92E59-E1CA-41ED-8C42-C92131F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C26A9-5DA9-426F-B294-46C0C3E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79097-65BF-41B8-A184-7F74FEA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9B7D75-AC15-44C3-A1F7-1E8F05A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1DEE8-00DC-44AC-8B25-C8512BA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DBD8D5-D832-43C5-BF9D-3EFAE62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9AF8BD-E665-4CDE-847D-4A5188C0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C6B-CF65-4EAB-A490-23C1CB9F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833254-50C3-4FDC-B803-FFB63AB9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48F49C-7A66-42E8-A1CE-8F2CBFA8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4D34E6-08EB-4FEC-83AA-FABDCEEB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7F307-C572-4A77-B0E7-2F107D12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F73B44-7BC9-4D76-8D38-FF4DE13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BB16EC-F1D2-4B2F-9CFA-169211FB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7A79A-0CF1-4CE5-9895-BE2CA95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92E856-0BFD-43A3-A989-52EF94E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635D06-F7E8-4481-9B06-253206A1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E34626-CEE2-44CF-8957-259A828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69D-59CE-4A00-BD0A-008A9C7E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7411AC-B546-4279-AA1B-8B15A34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E72E8D-1177-49B4-992E-0A05636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2B06B-2A38-4B57-A906-4B938FEA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5B1A-893A-44D1-AB59-C4AFCF7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D14-5B24-4413-B366-67DDE72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C941-C81A-4C58-A084-0620994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B4F2-92A3-4FEA-A07D-ED4E660B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CBB-DE4D-4DE8-8D87-A738950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D5E-8045-4839-A37A-37435E0B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7C-1724-4F33-B5BD-487B54A1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73BA-FF13-4D82-8610-84BB3FA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EA9-F6CB-4005-9D71-11E5FC5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DA4-03CF-4169-8CB6-BE46A6A1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DDC8-C1A6-453B-8E96-E0FA3095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9B4A-074D-4634-95A1-0B701C35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C38E-8A6E-441E-8BDF-795B4EE0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C512-076B-4E27-B02C-1ADB013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C1DE-049D-49E3-9AF6-14D6AA8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9761-5059-4B97-B5B7-5A89A65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148B-18BE-4096-90D3-F174D49A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15C-AEE6-4F8B-96CD-755376E2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1C21-EC68-42D4-9FE9-98389FE8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8AA3-976B-4E53-9BBB-77267C1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3762-3CFC-472E-9CE0-ADC0B00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5A38-28C4-4ED7-9CE6-33747A0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063C-C953-4AB7-9986-F355D49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88CB-09E5-414F-AB62-70823022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9703-A127-41E0-B676-140753E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93B6C-7B23-4384-8883-88B5D83C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FF199-6598-4504-9DD1-B5D34ABF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535FC-306A-45B5-9317-3D9F45F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086-AFE6-48B3-82F3-A8169505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1467B-F98C-49CA-9150-80F1065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2D06F-5C61-4E7D-BA15-F3EBD441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C2E4D-10FA-43C8-A4EC-D8AF5A33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7CFDE-099B-4906-AEDE-CBF4AB8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DE6E3-8ED3-4E61-AC0F-5F2D37F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5C8C2-59E5-4A7B-875F-DF6C611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DB4CA-8C48-43AB-973A-D6E3C33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FBA58-5E51-469A-9525-09EFD426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32CC6-0018-4DED-8A8D-0E096472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013C-5F45-4660-B06D-96231557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B96-1C92-49A6-B158-C4AE0353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0570-A7ED-43B1-9952-8410D733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FC01-E37E-4A53-9102-F06023F0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5CF7-366D-4CB4-860D-AB776E11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654A-D517-4547-B069-FE33197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247F-3B8D-4A7D-AC10-DFFAB4D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C0D3-DAA4-42C4-B90F-D80AC59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BB83-6869-4C44-994D-E9386ABC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3B21-E989-49CC-9EC7-C5DE81D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6FF8-1E15-4FFC-B9E3-162CCE67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4E23-8540-4A5E-9A14-DD09F9DB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6A4-3613-4293-98F7-1351EF33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776C-4767-47D3-965D-FC4ACD88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78F24-E47B-4D54-B72F-CAC2DD5A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9430A-3F28-4587-BEE5-5F78A02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9714B-7E19-4F14-A3AF-A8A74C13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B7277-FB8B-4C9D-B3BB-064E7317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A38A0-6D8C-4807-8AF7-E7A436B1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A1C6B-0750-479B-BED9-A9E8279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8FE80-7079-4A41-9E7C-4F0FD35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2321E-5E7E-42B7-BBE7-4937ED0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6CEF6-4997-4979-A09A-BAC4F09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A5A-5E0C-4D99-901C-9D09318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93C93-0532-445F-B0B9-CC6DC4C0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2C8F6-5F5F-4D23-9170-04299A7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CC2AC-0529-4C3A-B9FA-6F9AF684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1418-67C1-45E1-977B-4D05065D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D3ED-AE4A-4307-B03F-5158D44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D103-B201-4E3E-8C6F-436C71E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984F-B7A3-41DE-A8DA-A83D14BF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96BD-6FDD-40EC-8527-54DD52C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AECA-ACFD-44E4-ACBF-F1F7EDC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1AEF7-9DDA-4FF6-916B-627395A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B06-7068-4B5C-A1F8-DB3CFC0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E796-F3ED-4F1F-9207-3408426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B338B-ECBF-4417-9C1A-4AF3985F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EED6-DB7D-48B9-8E3F-C564A03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F8006-006E-4685-A314-696338DD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E4DA-9EC9-4ECC-B8A3-133414AC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20780-EC0F-4C5C-8AA7-4EE4C854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0233-D0FA-4D56-B61A-B88CE07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1939-A54B-4AE0-918E-8E7AE87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BECC-E421-4B61-88A4-8FE934C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99BA-A09F-4E4E-9FA7-E37C9086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F7C-5CB7-423B-96E3-7CE543A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7916-CA37-440D-8EA6-2A545F33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713D-5577-492A-B8CF-AFD1235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7F41-4C3A-4B60-AB1E-8F6427B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8B31D-B203-4246-9349-FABB97F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3BA1-C84B-4F0D-BA8A-71A7D48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B224-AA11-4F2E-842A-5310E445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76DC-40C0-4BB8-A7EA-C2C80070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14E74-7371-4586-B0E7-4F1F7C44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C2492-082A-41AC-B62C-D2814C8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D7A95-05C6-4ABA-917A-9D3EB4E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AB4-4C3D-4193-A165-B42B0AA348C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F0E-385F-43A5-8C0D-E0F5AD3F16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799-D1E5-43BE-A6EE-95BF65B798A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CBC0-1375-4BB7-BF21-457D294B91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9C0D-9DE5-495A-8910-22AA600C097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3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717-7C73-433E-A90E-6581F70852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0683-3323-44E5-B17F-8C2D0F29EB3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651-7E0A-4EEE-A9CA-0D4B3437DE2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E0F-4241-4F3A-863B-FDC632132F8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34A-F8E1-4774-93B9-D13C1D13177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D0D7-17D0-4FF1-8B2A-33DD0DDA8DD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692280"/>
            <a:ext cx="77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это такое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11280" y="342900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ть определение понятию «мужество»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ывать патриотизм, любовь к Родине и людям ее охраняющим не только в военное, но и мирное врем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16"/>
          <p:cNvPicPr/>
          <p:nvPr/>
        </p:nvPicPr>
        <p:blipFill>
          <a:blip r:embed="rId1"/>
          <a:stretch/>
        </p:blipFill>
        <p:spPr>
          <a:xfrm>
            <a:off x="108000" y="76500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17"/>
          <p:cNvPicPr/>
          <p:nvPr/>
        </p:nvPicPr>
        <p:blipFill>
          <a:blip r:embed="rId2"/>
          <a:stretch/>
        </p:blipFill>
        <p:spPr>
          <a:xfrm>
            <a:off x="4140360" y="3068640"/>
            <a:ext cx="4608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395280" y="1074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ведем ито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332000" y="1773360"/>
            <a:ext cx="72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ый герой русских былин -Богаты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известные имена былинных богатырей - Илья Муромец, Алеша Попович, Добрыня Никит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ринное название русского войска – ра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вное сражение Отечественной войны 1812 года - Бородинское с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великая из войн – Великая Отечестве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ая доблестная армия - Россий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 о праздновании Дня Защитника Отечества был принят в1995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е мужественные люди – РУССК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3062880" y="69156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 такое мужеств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2400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Это храбрость, присутствие духа в опасности. (Толковый словарь Русского языка С.И. Ожегов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468360" y="357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абрость – мужество и решительность в поступках, отсутствие страза пред опаснл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1332000" y="333360"/>
            <a:ext cx="63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жество в наше время, в мирное врем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Забег мужество"/>
          <p:cNvPicPr/>
          <p:nvPr/>
        </p:nvPicPr>
        <p:blipFill>
          <a:blip r:embed="rId1"/>
          <a:stretch/>
        </p:blipFill>
        <p:spPr>
          <a:xfrm>
            <a:off x="755640" y="2637000"/>
            <a:ext cx="2400480" cy="35272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"/>
          <p:cNvSpPr/>
          <p:nvPr/>
        </p:nvSpPr>
        <p:spPr>
          <a:xfrm>
            <a:off x="755640" y="609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ороз пробежать 30 км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Picture 7" descr="мужество беженцев"/>
          <p:cNvPicPr/>
          <p:nvPr/>
        </p:nvPicPr>
        <p:blipFill>
          <a:blip r:embed="rId2"/>
          <a:stretch/>
        </p:blipFill>
        <p:spPr>
          <a:xfrm>
            <a:off x="4716360" y="3573360"/>
            <a:ext cx="3506760" cy="23385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4716360" y="602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ыть беженцем… бороться за свое счастье и право на жиз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808200" y="1866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о быть мужественным, чтобы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при тушении пожаров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3355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42"/>
          <p:cNvPicPr/>
          <p:nvPr/>
        </p:nvPicPr>
        <p:blipFill>
          <a:blip r:embed="rId2"/>
          <a:stretch/>
        </p:blipFill>
        <p:spPr>
          <a:xfrm>
            <a:off x="5087880" y="2421000"/>
            <a:ext cx="3667320" cy="42926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395280" y="42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асать люд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435640" y="148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ервые добиваться успе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79280" y="981000"/>
            <a:ext cx="896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</a:rPr>
              <a:t>Много разных дел и поступков можно назвать мужественными!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979640" y="191628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знаем, что ныне лежит на вес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что совершается ны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 мужества пробил на наших часа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ужество нас не покин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6760" y="596880"/>
            <a:ext cx="855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может родная земля! Может накормить теплым и вкусным хлебо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оить родниковой водой, восхитить своей красотой. И только защитит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а себя она не может… Поэтому защита Отечества и родной земли – дол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х, кто ест ее хлеб, пьет ее воду, любуется ее красот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е раз приходилось русским людям отстаива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боду и независимость своей Роди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814680" y="2708280"/>
            <a:ext cx="799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род помнит своих легендарных героев-стражей: Илью Муром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ыню Никитича, Алешу Попович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95280" y="3692520"/>
            <a:ext cx="10974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еках осталась и по сей день живет добрая память о русском воин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о самом мужественном бесстрашном, честном, преданном Отечеству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ерном в дружбе. О русском князе Игоре Святославовиче и храбр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инов его дружины сохранено  и рассказано в русском эпосе “Слово 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ку Игореве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4360" y="5373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новь в 1830 году войско великого князя Дмитрия Донского разбило татаро-монгольские полчища на Куликовом по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3"/>
          <p:cNvPicPr/>
          <p:nvPr/>
        </p:nvPicPr>
        <p:blipFill>
          <a:blip r:embed="rId1"/>
          <a:stretch/>
        </p:blipFill>
        <p:spPr>
          <a:xfrm>
            <a:off x="755640" y="476280"/>
            <a:ext cx="802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7"/>
          <p:cNvPicPr/>
          <p:nvPr/>
        </p:nvPicPr>
        <p:blipFill>
          <a:blip r:embed="rId1"/>
          <a:stretch/>
        </p:blipFill>
        <p:spPr>
          <a:xfrm>
            <a:off x="468360" y="128520"/>
            <a:ext cx="842472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7" descr="11"/>
          <p:cNvPicPr/>
          <p:nvPr/>
        </p:nvPicPr>
        <p:blipFill>
          <a:blip r:embed="rId1"/>
          <a:stretch/>
        </p:blipFill>
        <p:spPr>
          <a:xfrm>
            <a:off x="900000" y="2276640"/>
            <a:ext cx="6836040" cy="43750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395280" y="549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подвиге солдат и русского дворянства во время Отечественной войны 1812 года рассказал великий русский писатель Лев Толстой в романе “Война и мир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468360" y="177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не долго отдыхали от ратных дел русские солдат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971640" y="2421000"/>
            <a:ext cx="52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орок первый! Июнь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од и месяц борьбы всенародной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же пылью времен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тянуть эту дату нельзя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однималсь страна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И на фронт уходила поротно,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умачевые звезд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а полотнах знамен уно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13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267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14"/>
          <p:cNvPicPr/>
          <p:nvPr/>
        </p:nvPicPr>
        <p:blipFill>
          <a:blip r:embed="rId2"/>
          <a:stretch/>
        </p:blipFill>
        <p:spPr>
          <a:xfrm>
            <a:off x="4859280" y="3284640"/>
            <a:ext cx="4103640" cy="3063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5"/>
          <p:cNvPicPr/>
          <p:nvPr/>
        </p:nvPicPr>
        <p:blipFill>
          <a:blip r:embed="rId3"/>
          <a:stretch/>
        </p:blipFill>
        <p:spPr>
          <a:xfrm>
            <a:off x="324000" y="3357720"/>
            <a:ext cx="4392360" cy="2811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9"/>
          <p:cNvPicPr/>
          <p:nvPr/>
        </p:nvPicPr>
        <p:blipFill>
          <a:blip r:embed="rId4"/>
          <a:stretch/>
        </p:blipFill>
        <p:spPr>
          <a:xfrm>
            <a:off x="4788000" y="476280"/>
            <a:ext cx="4356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Br_047"/>
          <p:cNvPicPr/>
          <p:nvPr/>
        </p:nvPicPr>
        <p:blipFill>
          <a:blip r:embed="rId1"/>
          <a:stretch/>
        </p:blipFill>
        <p:spPr>
          <a:xfrm>
            <a:off x="1908000" y="-414360"/>
            <a:ext cx="5180040" cy="7272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684360" y="33336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-  погибших на две с половиной тысячи километ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0 800 убитых на километр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2 человека на каждые два метра зем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 000 000 погибших за 14018  д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то 19 000 ежедневно, 800 человек в час, 30  человек каждую минуту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7 000 000 погибших в соотношении ко всему населению тех лет. Это значит: каждый шестой житель нашей страны погиб во время вой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лдаты сражались во имя мира и мечтали о будущем в передышках между боями, в тесных землянках и холодных окопах. Они верили, что мир, спасенный от фашизма, будет прекрасен. И эта вера давала им сил, давала веру, надежду. Делала их мужеств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900000" y="5300640"/>
            <a:ext cx="71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кончилась Великая Отечественная войн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о войны не закончили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539640" y="47628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ь страшных лет продолжалась война в Афганистане. Официально это называлось “выполнение интернационального долга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мы знаем, сколько наших ребят полегло на афганской земле. Они свой долг выполнили с честью, а вот выполнили ли долг перед ними те, кто посылал их на эту войну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нчилась война в Афганистане, но вновь не спят матери, провожая своих сыновей на службу в армию. Все новые и новые “горячие точки” вспыхивают на карте нашей страны, и среди них ставшее для многих страшным слово “Чечня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ссийские солдаты, вернувшиеся с чеченской войны, принесли с собой как бы обновленную любовь к Родине. Они в какой-то мере вернули нам высокое понятие патриотизма, мужества, воинского дол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29:57Z</dcterms:created>
  <dc:creator>SeryjVolhv</dc:creator>
  <dc:description/>
  <dc:language>en-US</dc:language>
  <cp:lastModifiedBy>Алия</cp:lastModifiedBy>
  <dcterms:modified xsi:type="dcterms:W3CDTF">2020-03-31T17:34:39Z</dcterms:modified>
  <cp:revision>9</cp:revision>
  <dc:subject/>
  <dc:title>Слайд 1</dc:title>
</cp:coreProperties>
</file>